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5BF3-958F-4B50-B846-D5234746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4F87-0E0F-4359-8699-51F02D32B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B80-CE33-4C74-97D8-1E98CE6D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04D-7A07-4528-89EE-05460F31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09C-E4E1-4909-B393-D2D8EDEE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245-2E7F-44F5-8C26-84CFADCF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3DE-A2E4-4B18-8769-169C41B2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510-BE24-47A2-9193-897023CF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89A-4313-4E56-990C-219E6701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7BE-32BC-409E-B3B2-70707299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8B0-6B06-47E7-B366-50CD062F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5D3-EB55-48EE-A56D-4F42E6A0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0D4-8676-4E73-9D9D-2203AB81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784-BB7C-42D0-AD83-0771336F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94AC-969E-488F-B809-E83450221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3 Which of the following language branch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member of the Indo-European language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e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Cauca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5_05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upload.wikimedia.org/wikipedia/commons/thumb/f/fe/Caucasus-political_en.svg/2000px-Caucasus-political_en.svg.png"/>
          <p:cNvPicPr/>
          <p:nvPr/>
        </p:nvPicPr>
        <p:blipFill>
          <a:blip r:embed="rId1"/>
          <a:stretch/>
        </p:blipFill>
        <p:spPr>
          <a:xfrm>
            <a:off x="838080" y="228600"/>
            <a:ext cx="7696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F05-09"/>
          <p:cNvPicPr/>
          <p:nvPr/>
        </p:nvPicPr>
        <p:blipFill>
          <a:blip r:embed="rId1"/>
          <a:stretch/>
        </p:blipFill>
        <p:spPr>
          <a:xfrm>
            <a:off x="178272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4 The ancestral roots of the English language have been traced back to present-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c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4 The ancestral roots of the English language have been traced back to present-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c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5 The second-most commonly spoken language in South Ame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5 The second-most commonly spoken language in South Ame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6 A creolized language is a local language mixe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other lo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t least 20% s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language of a colon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6 A creolized language is a local language mixe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other lo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t least 20% s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he language of a colon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1 Which of the following will encompass the largest number of spe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nguag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dividu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al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7 The most common language branch in eastern Europ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7 The most common language branch in eastern Europ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8 The primary reason why there are so many distinct languages in Af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long periods of isolation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policies of the European colon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grations to Africa from Asia and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major religious differences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cultural preference for languages that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telligible to others outside the immedi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8 The primary reason why there are so many distinct languages in Af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The long periods of isolation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policies of the European colon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grations to Africa from Asia and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major religious differences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cultural preference for languages that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telligible to others outside the immedi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9 The predomina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gua fran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wa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d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9 The predomina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gua fran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wa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d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10 _________ is the native language of the largest number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nd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10 _________ is the native language of the largest number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and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1 Which of the following will encompass the largest number of spe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Languag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dividu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al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2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omance langu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ta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2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omance langu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ta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05_0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rmanic Branch of Indo-Europ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648320"/>
            <a:ext cx="411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7640" indent="-917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Fig. 5-6:  The Germanic branch today is divided into North and West Germanic groups.  English is in the West Germanic group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120680" y="592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1"/>
          <a:stretch/>
        </p:blipFill>
        <p:spPr>
          <a:xfrm>
            <a:off x="5114880" y="304920"/>
            <a:ext cx="3462480" cy="63244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3 Which of the following language branch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member of the Indo-European language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e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auca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Hartman, Unity</cp:lastModifiedBy>
  <dcterms:modified xsi:type="dcterms:W3CDTF">2014-12-02T03:27:23Z</dcterms:modified>
  <cp:revision>84</cp:revision>
  <dc:subject/>
  <dc:title>CRS Chapter 4</dc:title>
</cp:coreProperties>
</file>